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024-C132-4E48-99EB-AB8DB5F3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D9F-04DE-4106-9AD0-4447AD0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CEA-8481-408F-8302-B79AC987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CAC-7970-459D-8CE6-EB61BD20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79BB-B058-4E97-96F9-831979B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7E9F-3DBD-43F7-8CD3-C7DAABB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4E51-6A12-4217-B0DD-DCE6C97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74EC-26F0-4D1B-86F1-30DB3C89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97E-5942-45EA-8EBE-98DFCE1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0F2-D13B-44E0-8499-21D10A55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84CD-6D52-4571-8E8E-5ECC54B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CB5-554D-4B84-99E8-09FF3FF5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4E13-350E-475B-87FD-11046AFF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63A0-C4C6-4BE7-9216-F6B81B9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EB72-00FA-4357-9151-A15C0D6D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76F-2254-4616-ADEC-1E5B530D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C99B-BA1A-4E75-91DF-FD8BC99E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4DB-772C-42AD-8F6C-B4A9C5F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3E6-97D6-4001-9067-08BDC2E0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E95-E540-4390-A94B-34968AD5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940-6AFA-4DE5-8BD6-01E2A97C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F99-38C0-471B-9AC2-5ACB93E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A94-C87A-487F-A979-0D24C36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DF7-27E3-4DF9-B8CD-F97634A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339-21DD-4ADC-A051-BFF04A9227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53A7-844D-43FF-B779-1D5F619242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-flags-symbols.com/_img_nations1/norwayflag.png&amp;imgrefurl=http://www.world-flags-symbols.com/norway/&amp;usg=__9qN-QR2OB0VGOcmMYUrjJuo2edk=&amp;h=582&amp;w=800&amp;sz=4&amp;hl=en&amp;start=9&amp;um=1&amp;tbnid=LHl4LObxJxWUsM:&amp;tbnh=104&amp;tbnw=143&amp;prev=/images%3Fq%3Dnorways%2Bflag%26um%3D1%26hl%3Den%26safe%3Dactive%26rlz%3D1T4IBMA_enUS309US309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tunliweb.no/Bilder_SM/_album_Bergen/a4d_1250pix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please.com/" TargetMode="External"/><Relationship Id="rId2" Type="http://schemas.openxmlformats.org/officeDocument/2006/relationships/hyperlink" Target="http://www.famouslandmarks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orwa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y Charles, Lydia, Nik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rade geograp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ndolph Scho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eri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sic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pulation: 4,644,45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 rate:11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fe expectancy:79.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ital city: Osl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nguages: Bokmal Norwegia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ynorsk Norwegi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Norwegian men are known as Vik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Olaf ll Haraldsson (also called Olaf the fa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Most of the first people 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rway were fishers and hunt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724280"/>
            <a:ext cx="26668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al geogra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Verdana"/>
              </a:rPr>
              <a:t>-</a:t>
            </a: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The largest lake in Norway is Lake Mjos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The Glomma River is the longest river in Nor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Norway is fairly warm because of the North Atlantic Curren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Fjords are very common in Nor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94360" y="1827000"/>
            <a:ext cx="3589200" cy="1987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94360" y="3952800"/>
            <a:ext cx="3589200" cy="19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83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ltu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national holiday is  Constitution Day on May 1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of their food is seafood because Norway is located on a coastlin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mmegrot is a popular dish for youngst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65760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984480"/>
            <a:ext cx="3505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mous Landmark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Akershus fortress in Oslo Nor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Edvard Grieg Museum in Bergen Nor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Funicular in Bergen Norway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kershus Fortress"/>
          <p:cNvPicPr/>
          <p:nvPr/>
        </p:nvPicPr>
        <p:blipFill>
          <a:blip r:embed="rId2"/>
          <a:stretch/>
        </p:blipFill>
        <p:spPr>
          <a:xfrm>
            <a:off x="533520" y="4038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1911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Enchantment of the world Norwa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Martin Hintz, pg. 43,5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Norway in Pictu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john b. Burks jr., pg. 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infopleas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famouslandmarks.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31:31Z</dcterms:created>
  <dc:creator>lydiafairburn</dc:creator>
  <dc:description/>
  <dc:language>en-US</dc:language>
  <cp:lastModifiedBy>lydiafairburn</cp:lastModifiedBy>
  <dcterms:modified xsi:type="dcterms:W3CDTF">2009-02-11T19:59:11Z</dcterms:modified>
  <cp:revision>5</cp:revision>
  <dc:subject/>
  <dc:title>Norway</dc:title>
</cp:coreProperties>
</file>